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5E08-EF70-4A3E-9661-E2596A00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BD6-00C5-4489-9C71-4849806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1C3-5380-4B6B-9038-91B6D042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67A-352F-47A8-89D1-514571B6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DA4C-A831-43B6-99AF-FB4AD530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2F09-25D4-461A-BCE5-F6166BCE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7875-1E10-4900-A6EA-744FEF59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829C-730A-465B-B1AD-31AC2897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BDDB-FFAD-4FD7-A32E-27E8C935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49D7-6FB1-4515-AA90-FD88A66CC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0272-38E7-4274-AB9B-421DDC4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E53-32FC-4B8F-BD1F-5545FF1B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5B1E-BD38-4267-84C1-2412903E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ED04-1529-4E53-ABE6-A378E41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69E0-CA98-47C5-B25A-068421BA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3EAA-CA85-43FC-A69A-DF77FA1A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74E0-261F-4DDD-8021-6F6C01DA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8A82D-4D23-4ABE-AAC0-B4BA9931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08898-406C-49C2-BED3-6B01592A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35D3D-405E-41E9-B0FE-509867CE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21043-0EFE-44B6-A21B-BC844344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C2A4-1243-4ED5-A185-A3F8B4B1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3BC-FE80-4876-B5B7-BB8AB71E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13D4-64AD-4F06-A3D9-BCBB4CE1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EB54-DFEF-400F-AE11-77240AE3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D4FD0-93B7-4822-B4AE-E7A5117D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E275B-2222-4679-89D7-4E5582D4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6DD0C-84F2-45AF-8A44-E945F021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5519-3E63-479E-9BD8-DBA1582B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166AE-0726-4636-9038-2D17221C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6501-9D50-439D-9EE2-862EA2A6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8550-141F-4F1D-A49C-212B847C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7B7E-9B7D-43EB-B0A0-28E64B71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1C0-093F-495A-8E9A-E1C69E70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3D5AAB-7B0F-4722-9938-4E13A6A2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E969-59A2-42BF-9A31-5250E716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F816B-73CB-4AC5-AEB9-363956BB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B4AF2-7857-4886-A790-C90ECCB8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AC0D-2241-4688-9A2F-76EE3D6F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BAE06-4C8E-4B56-9800-E3AD23B7B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87C22-7EA6-4F6C-AF93-2A78E8E2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A8D06-DC3C-4653-BDF6-039B577A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73388-2B39-4EBB-979F-AE2C3EB6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7DA31-96A5-48EC-9694-43012A66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B84-F026-46E8-81FC-F9423D3A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6658E-D142-44CC-B23D-D57D844B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BB84B-427C-4F09-8A3D-B181CA03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788D4-ABA9-4C20-ABED-5EC57B8A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FD806-25F8-4FDD-B493-96D8A076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9B566-6AFA-41CB-AC6A-9FB9CFF6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9A787-CC38-49CE-81EF-F7E8D6DF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04692-7949-4073-84C9-AFE96137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8165E-E18E-4788-A5BD-747E7F3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36050-EF10-41F3-BE2F-253DD9B1A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22C67-28BF-4FF5-B485-982169C66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9FAC-B189-4E39-B477-3DE4EC9A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17980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32936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6B15-EA45-460E-9DCA-F418C1DC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A5C0-308C-446D-A3C4-359A4302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32936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4E6-1D08-4973-94C8-E0EC4C8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17980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32936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EEC-8218-439C-BE49-456D02D0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1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4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9D60-3C9A-409B-B981-661B63151646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Flowchart: Document 6"/>
          <p:cNvGrpSpPr/>
          <p:nvPr/>
        </p:nvGrpSpPr>
        <p:grpSpPr>
          <a:xfrm>
            <a:off x="-6480" y="792000"/>
            <a:ext cx="9156960" cy="5919840"/>
            <a:chOff x="-6480" y="792000"/>
            <a:chExt cx="9156960" cy="5919840"/>
          </a:xfrm>
        </p:grpSpPr>
        <p:pic>
          <p:nvPicPr>
            <p:cNvPr id="48" name="Flowchart: Document 6" descr=""/>
            <p:cNvPicPr/>
            <p:nvPr/>
          </p:nvPicPr>
          <p:blipFill>
            <a:blip r:embed="rId3"/>
            <a:stretch/>
          </p:blipFill>
          <p:spPr>
            <a:xfrm>
              <a:off x="-6480" y="792000"/>
              <a:ext cx="9156960" cy="59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10800000">
              <a:off x="0" y="1142640"/>
              <a:ext cx="9144000" cy="55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0" name="Flowchart: Document 7"/>
          <p:cNvGrpSpPr/>
          <p:nvPr/>
        </p:nvGrpSpPr>
        <p:grpSpPr>
          <a:xfrm>
            <a:off x="-6480" y="981000"/>
            <a:ext cx="9156960" cy="4846680"/>
            <a:chOff x="-6480" y="981000"/>
            <a:chExt cx="9156960" cy="4846680"/>
          </a:xfrm>
        </p:grpSpPr>
        <p:pic>
          <p:nvPicPr>
            <p:cNvPr id="51" name="Flowchart: Document 7" descr=""/>
            <p:cNvPicPr/>
            <p:nvPr/>
          </p:nvPicPr>
          <p:blipFill>
            <a:blip r:embed="rId4"/>
            <a:stretch/>
          </p:blipFill>
          <p:spPr>
            <a:xfrm>
              <a:off x="-6480" y="981000"/>
              <a:ext cx="9156960" cy="484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10800000">
              <a:off x="0" y="1341000"/>
              <a:ext cx="9144000" cy="447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53" name="Flowchart: Document 6"/>
          <p:cNvGrpSpPr/>
          <p:nvPr/>
        </p:nvGrpSpPr>
        <p:grpSpPr>
          <a:xfrm>
            <a:off x="-6480" y="1170000"/>
            <a:ext cx="9156960" cy="3792600"/>
            <a:chOff x="-6480" y="1170000"/>
            <a:chExt cx="9156960" cy="3792600"/>
          </a:xfrm>
        </p:grpSpPr>
        <p:pic>
          <p:nvPicPr>
            <p:cNvPr id="54" name="Flowchart: Document 6" descr=""/>
            <p:cNvPicPr/>
            <p:nvPr/>
          </p:nvPicPr>
          <p:blipFill>
            <a:blip r:embed="rId5"/>
            <a:stretch/>
          </p:blipFill>
          <p:spPr>
            <a:xfrm>
              <a:off x="-6480" y="1170000"/>
              <a:ext cx="9156960" cy="379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10800000">
              <a:off x="0" y="1520640"/>
              <a:ext cx="9144000" cy="34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EED-9D04-4662-A1CA-AF9882D631C1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63AE-CAAD-448D-9FC4-816EB1BD2995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0B97-718D-41CF-8497-3B8BBA6F0AE8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edede"/>
                </a:solidFill>
                <a:latin typeface="Corbel"/>
              </a:rPr>
              <a:t>Click to edit the title text format</a:t>
            </a: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51"/>
              </a:spcBef>
              <a:buClr>
                <a:srgbClr val="53548a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630360" indent="-273240">
              <a:spcBef>
                <a:spcPts val="751"/>
              </a:spcBef>
              <a:buClr>
                <a:srgbClr val="438086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22320" indent="-272880">
              <a:spcBef>
                <a:spcPts val="751"/>
              </a:spcBef>
              <a:buClr>
                <a:srgbClr val="a04da3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187280" indent="-228600">
              <a:spcBef>
                <a:spcPts val="751"/>
              </a:spcBef>
              <a:buClr>
                <a:srgbClr val="c4652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228600">
              <a:spcBef>
                <a:spcPts val="751"/>
              </a:spcBef>
              <a:buClr>
                <a:srgbClr val="8b5d3d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228600">
              <a:spcBef>
                <a:spcPts val="751"/>
              </a:spcBef>
              <a:buClr>
                <a:srgbClr val="ffffff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15328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014D-FB85-4D13-B26B-214645E6843C}" type="slidenum">
              <a:rPr b="0" lang="en-US" sz="14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6" descr=""/>
          <p:cNvPicPr/>
          <p:nvPr/>
        </p:nvPicPr>
        <p:blipFill>
          <a:blip r:embed="rId1"/>
          <a:stretch/>
        </p:blipFill>
        <p:spPr>
          <a:xfrm>
            <a:off x="835200" y="1200240"/>
            <a:ext cx="74800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914040"/>
            <a:ext cx="8229600" cy="53802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conducted initial walkthroughs of all buildings (with ASBO consultants)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prioritized action plan was set for the high school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air handling system repair, extensive remediation in one vocational classroom, and funding set for replacement of all lighting likely to contain PCB’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comfort survey was sent to all district employees and was well received with a 25% return rate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green cleaning techniques and products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Lucida Calligraphy"/>
              </a:rPr>
              <a:t>setting up classrooms for better air quality and efficient cleaning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50000"/>
              </a:lnSpc>
              <a:spcBef>
                <a:spcPts val="476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C:\Documents and Settings\jbrough\Local Settings\Temporary Internet Files\Content.IE5\24JG9R5C\MPj04373600000[1].jpg"/>
          <p:cNvPicPr/>
          <p:nvPr/>
        </p:nvPicPr>
        <p:blipFill>
          <a:blip r:embed="rId1"/>
          <a:stretch/>
        </p:blipFill>
        <p:spPr>
          <a:xfrm>
            <a:off x="450720" y="426960"/>
            <a:ext cx="7937640" cy="6023160"/>
          </a:xfrm>
          <a:prstGeom prst="rect">
            <a:avLst/>
          </a:prstGeom>
          <a:ln w="0">
            <a:noFill/>
          </a:ln>
        </p:spPr>
      </p:pic>
      <p:pic>
        <p:nvPicPr>
          <p:cNvPr id="234" name="Rectangle 4" descr=""/>
          <p:cNvPicPr/>
          <p:nvPr/>
        </p:nvPicPr>
        <p:blipFill>
          <a:blip r:embed="rId2"/>
          <a:stretch/>
        </p:blipFill>
        <p:spPr>
          <a:xfrm>
            <a:off x="1865160" y="1225440"/>
            <a:ext cx="469440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3" descr=""/>
          <p:cNvPicPr/>
          <p:nvPr/>
        </p:nvPicPr>
        <p:blipFill>
          <a:blip r:embed="rId1"/>
          <a:stretch/>
        </p:blipFill>
        <p:spPr>
          <a:xfrm>
            <a:off x="-42840" y="1305000"/>
            <a:ext cx="4889520" cy="290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Content Placeholder 4"/>
          <p:cNvGraphicFramePr/>
          <p:nvPr/>
        </p:nvGraphicFramePr>
        <p:xfrm>
          <a:off x="4572000" y="609480"/>
          <a:ext cx="436104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Content Placeholder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609480"/>
                    <a:ext cx="43610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 fontScale="79000"/>
          </a:bodyPr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Strive to obtain maximum value for its expenditures and will work towards obtaining the “best value “ by balancing short and long term costs, maintenance, life cycle, and environmental cost in purchasing goods and servic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Acknowledges that environmentally responsible purchasing choices will help create and sustain markets for environmentally responsible and recycled content product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Commits to the goal of making environmentally and fiscally responsible purchasing choices that consider life cycle costs, long-term implications, and relative environmental harm of product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251640" indent="-251640">
              <a:lnSpc>
                <a:spcPct val="170000"/>
              </a:lnSpc>
              <a:spcBef>
                <a:spcPts val="4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alligraphy"/>
              </a:rPr>
              <a:t>Purchasing policies will encourage obtaining products that minimize waste products, have high recycled content, use environmental production methods, demonstrate maximum durability or biodegradability, reparability, energy-efficiency, non-toxicity, and recyclabilit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39" name="Title 3" descr=""/>
          <p:cNvPicPr/>
          <p:nvPr/>
        </p:nvPicPr>
        <p:blipFill>
          <a:blip r:embed="rId1"/>
          <a:stretch/>
        </p:blipFill>
        <p:spPr>
          <a:xfrm>
            <a:off x="291960" y="-66600"/>
            <a:ext cx="87915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70" descr=""/>
          <p:cNvPicPr/>
          <p:nvPr/>
        </p:nvPicPr>
        <p:blipFill>
          <a:blip r:embed="rId1"/>
          <a:srcRect l="8247" t="33673" r="47306" b="36024"/>
          <a:stretch/>
        </p:blipFill>
        <p:spPr>
          <a:xfrm>
            <a:off x="1676520" y="457200"/>
            <a:ext cx="5419440" cy="3505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41" name="Picture 71" descr=""/>
          <p:cNvPicPr/>
          <p:nvPr/>
        </p:nvPicPr>
        <p:blipFill>
          <a:blip r:embed="rId2"/>
          <a:srcRect l="2498" t="63282" r="41253" b="9375"/>
          <a:stretch/>
        </p:blipFill>
        <p:spPr>
          <a:xfrm>
            <a:off x="1066680" y="3809880"/>
            <a:ext cx="6858000" cy="266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edede"/>
              </a:solidFill>
              <a:latin typeface="Corbe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304920" y="390600"/>
            <a:ext cx="8388360" cy="1706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Health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Comfor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Safe &amp; Sec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Energy Effici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Materials Effici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Organized &amp; Clutter Fre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Easy to Maintain &amp; Operat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2f2f2"/>
                </a:solidFill>
                <a:latin typeface="Lucida Calligraphy"/>
              </a:rPr>
              <a:t>Optimal Learning Environment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45880">
              <a:lnSpc>
                <a:spcPct val="90000"/>
              </a:lnSpc>
              <a:spcBef>
                <a:spcPts val="649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3520" y="114264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Education and Awarenes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Superintendent buy-i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IEQ Coordinators – Bill Caruso, Steve Dalzell,</a:t>
            </a:r>
            <a:br>
              <a:rPr sz="2400"/>
            </a:b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Eric Greenfield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Team assembly begu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Begun planning process and moved into</a:t>
            </a:r>
            <a:br>
              <a:rPr sz="2400"/>
            </a:b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action with upgrades to facilities and </a:t>
            </a:r>
            <a:br>
              <a:rPr sz="2400"/>
            </a:b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training preparations for the new school yea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Demonstrated commit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2f2f2"/>
                </a:solidFill>
                <a:latin typeface="Lucida Calligraphy"/>
              </a:rPr>
              <a:t>Great Start Award submitted July 2010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31840" y="450720"/>
            <a:ext cx="8308800" cy="1036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mble a district level team and schoo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based teams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individuals passionate about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issue who will champion the program in thei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respective area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Members agree to ACTIVELY participat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throughout IEQ program development an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implementation phas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Cross-functional represent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380520"/>
            <a:ext cx="8229600" cy="59137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Resource need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What will  you asses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Building walkthrough procedure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Parameters included in baseline assessment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Budget / time frame / expected outcome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Assessment plan goals &amp; objectives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Prior assessment histor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Communication strateg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Use of technology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Criteria for prioritization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335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mble Supervisors &amp; Manag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ss IEQ Operating Procedu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uses of technolog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methods of communic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Establish performance baseline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Assess staff nee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Identify accountabilities and reward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Calligraphy"/>
              </a:rPr>
              <a:t>Prioritize activiti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837720"/>
            <a:ext cx="8229600" cy="54565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Obtain top level support earl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Vision includes IEQ managemen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Educating school stakeholder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IEQ becomes part of cultur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All staff fully engaged in IEQ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assionate and committed leader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99072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Selecting a good te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Rapid O &amp; M respons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Data collec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Prevention is the focu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Respect and Appreci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50000"/>
              </a:lnSpc>
              <a:spcBef>
                <a:spcPts val="700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Lucida Calligraphy"/>
              </a:rPr>
              <a:t>Communicate, Communicate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!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31840" y="378000"/>
            <a:ext cx="8388360" cy="1109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179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t">
            <a:normAutofit/>
          </a:bodyPr>
          <a:p>
            <a:pPr marL="318960" indent="-318960">
              <a:lnSpc>
                <a:spcPct val="14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The District’s Green Team developed and is charged with implementing a Sustainability Policy for the district including energy conservation, recycling, green purchasing and now IAQ 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  <a:p>
            <a:pPr marL="318960" indent="-318960">
              <a:lnSpc>
                <a:spcPct val="140000"/>
              </a:lnSpc>
              <a:spcBef>
                <a:spcPts val="524"/>
              </a:spcBef>
              <a:buClr>
                <a:srgbClr val="edda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Lucida Calligraphy"/>
              </a:rPr>
              <a:t>began IAQ formal activities by sending representatives of the District’s Green Team to the January 2010 Tools for Schools IAQ Symposium</a:t>
            </a:r>
            <a:endParaRPr b="0" lang="en-US" sz="21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3:08:16Z</dcterms:created>
  <dc:creator>Janet Brough</dc:creator>
  <dc:description/>
  <cp:keywords/>
  <dc:language>en-US</dc:language>
  <cp:lastModifiedBy>Janet Brough</cp:lastModifiedBy>
  <dcterms:modified xsi:type="dcterms:W3CDTF">2010-09-09T14:18:52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17809990</vt:lpwstr>
  </property>
</Properties>
</file>